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E393-A03D-4D46-8493-3AEA8C3F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B35-1C59-4E79-998C-7677A0851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261-BED2-4775-8954-0FAE78F4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BC3-D381-4FB6-B54A-1E2AEA82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900-242B-4344-BE65-6E6BB5E8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Summarize the contribution of the biological perspective to the study of depression, and discuss the link between suicide and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5E1A-556A-47EE-8467-455D0F0D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5348-22BF-41A5-88FF-496DD330B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D50-1B3A-426B-B590-16C4B1F7E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Summarize the contribution of the social-cognitive perspective to the study of depression, and describe the events in the cycle of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FDD-79CB-40B7-9DB0-E5ADC7243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8A79-0AEE-4169-A30B-D8E1F453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492-98F6-4CB5-BC37-93E85225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2E5-44B5-4EC2-86C3-B7E8E818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schizophrenia, and differentiate delusion and halluc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3A10-9B16-4573-AA83-5CB47EC1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ood disord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contrast major depressive disorder and bipolar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C9C5-2DF8-4D38-B245-1673CB9C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B49C-E550-444C-99EE-8011DE7E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D1C9-2CDB-494D-8973-3205B7E4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238-B866-4344-AD9D-9948B814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53D-11A1-48C4-9B09-5B0D87D0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tinguish the five subtypes of schizophrenia, and contrast chronic and reactive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C4A-9B02-4494-AE6E-CE93B0898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66B-FFEE-4E02-81F6-D08A8E8D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745-6D04-467B-8D3F-D1E6F0A15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607-4A2B-4734-B996-014F95C9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Outline some abnormal brain functions and structures associated with schizophrenia, and discuss the possible link between prenatal viral infections and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479-FBA8-42B9-84A7-19959CF0B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BBB9-AB3B-4F10-B9BF-D6C6D3D1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B255-61FD-485C-A4BA-0C8328EC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8208-1229-4795-8431-8A4D27A7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74F-6E25-4532-A34D-0E9E0D3BF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a genetic contribution to the development of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B52-9B2B-4D8D-B695-B68AA6FF9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2433-7D97-4EF8-9EB6-627ADAB0E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some psychological factors that may be early signs of schizophrenia in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BA3-A662-4BF6-A556-61CD35C6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3F7A-FA48-4131-BF53-47A8D949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three clusters of personality disorders, and describe the behaviors and brain activity associated with antisocial personality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F1D-4904-4148-AF41-F8810F2F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7B52-B6DE-4AB9-B9AF-D6236AFB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C88A-41EB-4C8C-9CC1-39E401AAC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F75-591A-46F0-B1F2-C017749EE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68B-0ACA-492F-AD3B-04253154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27DD-B8C3-4A40-B04F-CB85E9BF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prevalence of psychological disorders, and summarize the findings on the link between poverty and serious psychological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A56C-B887-487D-9485-BF7AD552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B1D-F099-4411-A363-C64E0700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CF6C-901E-4939-8611-1A9DA9A51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010-5759-425A-ACEB-23B325A3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494-9182-47CC-B1F8-06C18FEC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4F15-6E40-4384-943B-138EFAD2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126-8771-450A-B2AD-2C261A17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facts that an acceptable theory of depression must expl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CE7-138A-4312-8F7B-7EB92C00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5AE-9E2B-4C5D-82EA-109DF0A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B01-28BB-482F-8708-1885D1B4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110-5D1A-4893-81C2-D234D02A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966-B9DC-4F95-B30B-944B8F70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4D0-8083-4DBA-9A07-DE5F6A6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F74-A195-4180-BD1E-D3734F4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BF6-F16B-4588-8984-63432D41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DDA-D012-416F-98DC-0AAB91B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C5A-153A-4D62-AD98-1DACFB6E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815-FE6F-4841-9EA4-782530A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24F-747E-42CB-BEC9-AFF47D6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447-B072-4307-8197-C27A095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151-9A8D-4B31-A90B-E56E8368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9DF-8050-49AC-B4B3-F8F1FF26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MyersPsy8e_CO16"/>
          <p:cNvPicPr/>
          <p:nvPr/>
        </p:nvPicPr>
        <p:blipFill>
          <a:blip r:embed="rId1"/>
          <a:stretch/>
        </p:blipFill>
        <p:spPr>
          <a:xfrm>
            <a:off x="422280" y="380880"/>
            <a:ext cx="13208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274-106A-466A-8AD9-F9A5CB598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76320" y="1600200"/>
            <a:ext cx="7148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ve episodes self-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increasing, especially in the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MyersPsy8e_16UN18"/>
          <p:cNvPicPr/>
          <p:nvPr/>
        </p:nvPicPr>
        <p:blipFill>
          <a:blip r:embed="rId1"/>
          <a:stretch/>
        </p:blipFill>
        <p:spPr>
          <a:xfrm>
            <a:off x="3508200" y="3200400"/>
            <a:ext cx="212904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022560" y="632448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ost-partum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 rot="5400000">
            <a:off x="4875120" y="5313600"/>
            <a:ext cx="17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ree Navarro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A86-E78C-4020-B65B-3F554BC1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i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severe form of behavioral response to depression is suicide. Each year some 1 million people commit suicide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533520" y="3214800"/>
            <a:ext cx="4038480" cy="3109680"/>
            <a:chOff x="533520" y="3214800"/>
            <a:chExt cx="4038480" cy="3109680"/>
          </a:xfrm>
        </p:grpSpPr>
        <p:sp>
          <p:nvSpPr>
            <p:cNvPr id="155" name="Rectangle 5"/>
            <p:cNvSpPr/>
            <p:nvPr/>
          </p:nvSpPr>
          <p:spPr>
            <a:xfrm>
              <a:off x="533520" y="3657600"/>
              <a:ext cx="40384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Nation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Raci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Gend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Age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Oth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057680" y="321480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Suicide Statist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Picture 8" descr="MyersPsy8e_fig"/>
          <p:cNvPicPr/>
          <p:nvPr/>
        </p:nvPicPr>
        <p:blipFill>
          <a:blip r:embed="rId1"/>
          <a:stretch/>
        </p:blipFill>
        <p:spPr>
          <a:xfrm>
            <a:off x="4572000" y="4202280"/>
            <a:ext cx="42670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DED-4DC9-4F34-BF9D-DF38FA0A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MyersPsy8e_16UN19"/>
          <p:cNvPicPr/>
          <p:nvPr/>
        </p:nvPicPr>
        <p:blipFill>
          <a:blip r:embed="rId1"/>
          <a:stretch/>
        </p:blipFill>
        <p:spPr>
          <a:xfrm>
            <a:off x="4772160" y="3503520"/>
            <a:ext cx="3990960" cy="26686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tic Influence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ood disorders run in families. The rate of depression is higher in identical (50%) than fraternal twins (20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7200" y="35053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Linkage analys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ssociation studie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link possible genes and dispositions for de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 rot="5400000">
            <a:off x="8170200" y="533448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rry Irwin Phot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AAE-A767-4231-9960-03688FEA1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eurotransmitters &amp;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918040" y="1828800"/>
            <a:ext cx="1955880" cy="245916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59160"/>
              <a:gd name="textAreaBottom" fmla="*/ 2459520 h 2459160"/>
            </a:gdLst>
            <a:ahLst/>
            <a:rect l="textAreaLeft" t="textAreaTop" r="textAreaRight" b="textAreaBottom"/>
            <a:pathLst>
              <a:path w="1775" h="2231">
                <a:moveTo>
                  <a:pt x="383" y="17"/>
                </a:moveTo>
                <a:cubicBezTo>
                  <a:pt x="399" y="118"/>
                  <a:pt x="418" y="218"/>
                  <a:pt x="430" y="319"/>
                </a:cubicBezTo>
                <a:cubicBezTo>
                  <a:pt x="425" y="431"/>
                  <a:pt x="427" y="535"/>
                  <a:pt x="392" y="640"/>
                </a:cubicBezTo>
                <a:cubicBezTo>
                  <a:pt x="353" y="777"/>
                  <a:pt x="244" y="1025"/>
                  <a:pt x="194" y="1141"/>
                </a:cubicBezTo>
                <a:cubicBezTo>
                  <a:pt x="161" y="1220"/>
                  <a:pt x="115" y="1278"/>
                  <a:pt x="90" y="1339"/>
                </a:cubicBezTo>
                <a:cubicBezTo>
                  <a:pt x="58" y="1422"/>
                  <a:pt x="33" y="1528"/>
                  <a:pt x="15" y="1612"/>
                </a:cubicBezTo>
                <a:cubicBezTo>
                  <a:pt x="0" y="1689"/>
                  <a:pt x="12" y="1755"/>
                  <a:pt x="28" y="1820"/>
                </a:cubicBezTo>
                <a:cubicBezTo>
                  <a:pt x="44" y="1885"/>
                  <a:pt x="74" y="1951"/>
                  <a:pt x="109" y="2000"/>
                </a:cubicBezTo>
                <a:cubicBezTo>
                  <a:pt x="133" y="2024"/>
                  <a:pt x="160" y="2067"/>
                  <a:pt x="238" y="2112"/>
                </a:cubicBezTo>
                <a:cubicBezTo>
                  <a:pt x="346" y="2147"/>
                  <a:pt x="402" y="2165"/>
                  <a:pt x="489" y="2182"/>
                </a:cubicBezTo>
                <a:cubicBezTo>
                  <a:pt x="576" y="2199"/>
                  <a:pt x="668" y="2206"/>
                  <a:pt x="759" y="2213"/>
                </a:cubicBezTo>
                <a:cubicBezTo>
                  <a:pt x="938" y="2222"/>
                  <a:pt x="815" y="2231"/>
                  <a:pt x="1033" y="2222"/>
                </a:cubicBezTo>
                <a:cubicBezTo>
                  <a:pt x="1112" y="2209"/>
                  <a:pt x="1224" y="2187"/>
                  <a:pt x="1299" y="2161"/>
                </a:cubicBezTo>
                <a:cubicBezTo>
                  <a:pt x="1374" y="2147"/>
                  <a:pt x="1456" y="2140"/>
                  <a:pt x="1516" y="2113"/>
                </a:cubicBezTo>
                <a:cubicBezTo>
                  <a:pt x="1551" y="2091"/>
                  <a:pt x="1618" y="2044"/>
                  <a:pt x="1658" y="2000"/>
                </a:cubicBezTo>
                <a:cubicBezTo>
                  <a:pt x="1679" y="1975"/>
                  <a:pt x="1738" y="1875"/>
                  <a:pt x="1756" y="1847"/>
                </a:cubicBezTo>
                <a:cubicBezTo>
                  <a:pt x="1775" y="1787"/>
                  <a:pt x="1774" y="1719"/>
                  <a:pt x="1774" y="1637"/>
                </a:cubicBezTo>
                <a:cubicBezTo>
                  <a:pt x="1773" y="1613"/>
                  <a:pt x="1717" y="1446"/>
                  <a:pt x="1705" y="1424"/>
                </a:cubicBezTo>
                <a:cubicBezTo>
                  <a:pt x="1672" y="1353"/>
                  <a:pt x="1641" y="1264"/>
                  <a:pt x="1535" y="1094"/>
                </a:cubicBezTo>
                <a:cubicBezTo>
                  <a:pt x="1447" y="962"/>
                  <a:pt x="1195" y="580"/>
                  <a:pt x="1072" y="404"/>
                </a:cubicBezTo>
                <a:cubicBezTo>
                  <a:pt x="1014" y="327"/>
                  <a:pt x="878" y="128"/>
                  <a:pt x="798" y="36"/>
                </a:cubicBezTo>
                <a:cubicBezTo>
                  <a:pt x="613" y="18"/>
                  <a:pt x="576" y="0"/>
                  <a:pt x="383" y="17"/>
                </a:cubicBez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715000" y="4037040"/>
            <a:ext cx="2913120" cy="114444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644" h="1039">
                <a:moveTo>
                  <a:pt x="0" y="246"/>
                </a:moveTo>
                <a:cubicBezTo>
                  <a:pt x="79" y="254"/>
                  <a:pt x="157" y="284"/>
                  <a:pt x="236" y="293"/>
                </a:cubicBezTo>
                <a:cubicBezTo>
                  <a:pt x="297" y="312"/>
                  <a:pt x="361" y="341"/>
                  <a:pt x="425" y="350"/>
                </a:cubicBezTo>
                <a:cubicBezTo>
                  <a:pt x="456" y="354"/>
                  <a:pt x="488" y="355"/>
                  <a:pt x="520" y="359"/>
                </a:cubicBezTo>
                <a:cubicBezTo>
                  <a:pt x="539" y="361"/>
                  <a:pt x="557" y="365"/>
                  <a:pt x="576" y="368"/>
                </a:cubicBezTo>
                <a:cubicBezTo>
                  <a:pt x="631" y="387"/>
                  <a:pt x="676" y="391"/>
                  <a:pt x="737" y="397"/>
                </a:cubicBezTo>
                <a:cubicBezTo>
                  <a:pt x="854" y="435"/>
                  <a:pt x="983" y="455"/>
                  <a:pt x="1105" y="472"/>
                </a:cubicBezTo>
                <a:cubicBezTo>
                  <a:pt x="1281" y="469"/>
                  <a:pt x="1458" y="471"/>
                  <a:pt x="1634" y="463"/>
                </a:cubicBezTo>
                <a:cubicBezTo>
                  <a:pt x="1681" y="461"/>
                  <a:pt x="1782" y="455"/>
                  <a:pt x="1823" y="435"/>
                </a:cubicBezTo>
                <a:cubicBezTo>
                  <a:pt x="1914" y="390"/>
                  <a:pt x="1979" y="371"/>
                  <a:pt x="2068" y="321"/>
                </a:cubicBezTo>
                <a:cubicBezTo>
                  <a:pt x="2184" y="256"/>
                  <a:pt x="2280" y="164"/>
                  <a:pt x="2408" y="123"/>
                </a:cubicBezTo>
                <a:cubicBezTo>
                  <a:pt x="2447" y="97"/>
                  <a:pt x="2477" y="71"/>
                  <a:pt x="2521" y="57"/>
                </a:cubicBezTo>
                <a:cubicBezTo>
                  <a:pt x="2540" y="44"/>
                  <a:pt x="2559" y="32"/>
                  <a:pt x="2578" y="19"/>
                </a:cubicBezTo>
                <a:cubicBezTo>
                  <a:pt x="2595" y="8"/>
                  <a:pt x="2635" y="0"/>
                  <a:pt x="2635" y="0"/>
                </a:cubicBezTo>
                <a:cubicBezTo>
                  <a:pt x="2644" y="1020"/>
                  <a:pt x="2635" y="0"/>
                  <a:pt x="2644" y="1029"/>
                </a:cubicBezTo>
                <a:cubicBezTo>
                  <a:pt x="2162" y="1029"/>
                  <a:pt x="1029" y="1039"/>
                  <a:pt x="0" y="1001"/>
                </a:cubicBezTo>
                <a:cubicBezTo>
                  <a:pt x="10" y="418"/>
                  <a:pt x="0" y="992"/>
                  <a:pt x="0" y="246"/>
                </a:cubicBezTo>
                <a:close/>
              </a:path>
            </a:pathLst>
          </a:custGeom>
          <a:solidFill>
            <a:srgbClr val="ff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54920" y="451656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ost-syna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37280" y="29401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-syna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40"/>
          <p:cNvGrpSpPr/>
          <p:nvPr/>
        </p:nvGrpSpPr>
        <p:grpSpPr>
          <a:xfrm>
            <a:off x="7291440" y="3786120"/>
            <a:ext cx="263520" cy="263520"/>
            <a:chOff x="7291440" y="3786120"/>
            <a:chExt cx="263520" cy="263520"/>
          </a:xfrm>
        </p:grpSpPr>
        <p:sp>
          <p:nvSpPr>
            <p:cNvPr id="171" name="Oval 41"/>
            <p:cNvSpPr/>
            <p:nvPr/>
          </p:nvSpPr>
          <p:spPr>
            <a:xfrm>
              <a:off x="7291440" y="3786120"/>
              <a:ext cx="263520" cy="2635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2"/>
            <p:cNvSpPr/>
            <p:nvPr/>
          </p:nvSpPr>
          <p:spPr>
            <a:xfrm>
              <a:off x="7396560" y="389124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43"/>
            <p:cNvSpPr/>
            <p:nvPr/>
          </p:nvSpPr>
          <p:spPr>
            <a:xfrm>
              <a:off x="7319520" y="389124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>
              <a:off x="7363800" y="3961800"/>
              <a:ext cx="6336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5"/>
            <p:cNvSpPr/>
            <p:nvPr/>
          </p:nvSpPr>
          <p:spPr>
            <a:xfrm>
              <a:off x="7449480" y="3944160"/>
              <a:ext cx="6336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46"/>
            <p:cNvSpPr/>
            <p:nvPr/>
          </p:nvSpPr>
          <p:spPr>
            <a:xfrm>
              <a:off x="7449480" y="3838680"/>
              <a:ext cx="6336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7372440" y="3814560"/>
              <a:ext cx="6372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82"/>
          <p:cNvGrpSpPr/>
          <p:nvPr/>
        </p:nvGrpSpPr>
        <p:grpSpPr>
          <a:xfrm>
            <a:off x="6127920" y="3732120"/>
            <a:ext cx="263520" cy="265320"/>
            <a:chOff x="6127920" y="3732120"/>
            <a:chExt cx="263520" cy="265320"/>
          </a:xfrm>
        </p:grpSpPr>
        <p:sp>
          <p:nvSpPr>
            <p:cNvPr id="179" name="Oval 57"/>
            <p:cNvSpPr/>
            <p:nvPr/>
          </p:nvSpPr>
          <p:spPr>
            <a:xfrm>
              <a:off x="6127920" y="3732120"/>
              <a:ext cx="263520" cy="265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58"/>
            <p:cNvSpPr/>
            <p:nvPr/>
          </p:nvSpPr>
          <p:spPr>
            <a:xfrm>
              <a:off x="6233040" y="38379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59"/>
            <p:cNvSpPr/>
            <p:nvPr/>
          </p:nvSpPr>
          <p:spPr>
            <a:xfrm>
              <a:off x="6156000" y="38379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60"/>
            <p:cNvSpPr/>
            <p:nvPr/>
          </p:nvSpPr>
          <p:spPr>
            <a:xfrm>
              <a:off x="6200280" y="3908880"/>
              <a:ext cx="6336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1"/>
            <p:cNvSpPr/>
            <p:nvPr/>
          </p:nvSpPr>
          <p:spPr>
            <a:xfrm>
              <a:off x="6285960" y="3891240"/>
              <a:ext cx="63360" cy="63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62"/>
            <p:cNvSpPr/>
            <p:nvPr/>
          </p:nvSpPr>
          <p:spPr>
            <a:xfrm>
              <a:off x="6285960" y="3785040"/>
              <a:ext cx="6336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63"/>
            <p:cNvSpPr/>
            <p:nvPr/>
          </p:nvSpPr>
          <p:spPr>
            <a:xfrm>
              <a:off x="6208920" y="37605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Oval 64"/>
          <p:cNvSpPr/>
          <p:nvPr/>
        </p:nvSpPr>
        <p:spPr>
          <a:xfrm>
            <a:off x="6486480" y="4325760"/>
            <a:ext cx="6372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65"/>
          <p:cNvGrpSpPr/>
          <p:nvPr/>
        </p:nvGrpSpPr>
        <p:grpSpPr>
          <a:xfrm>
            <a:off x="6550200" y="3890880"/>
            <a:ext cx="264960" cy="265320"/>
            <a:chOff x="6550200" y="3890880"/>
            <a:chExt cx="264960" cy="265320"/>
          </a:xfrm>
        </p:grpSpPr>
        <p:sp>
          <p:nvSpPr>
            <p:cNvPr id="188" name="Oval 66"/>
            <p:cNvSpPr/>
            <p:nvPr/>
          </p:nvSpPr>
          <p:spPr>
            <a:xfrm>
              <a:off x="6550200" y="3890880"/>
              <a:ext cx="264960" cy="2653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67"/>
            <p:cNvSpPr/>
            <p:nvPr/>
          </p:nvSpPr>
          <p:spPr>
            <a:xfrm>
              <a:off x="6656040" y="3996720"/>
              <a:ext cx="6408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68"/>
            <p:cNvSpPr/>
            <p:nvPr/>
          </p:nvSpPr>
          <p:spPr>
            <a:xfrm>
              <a:off x="6578640" y="3996720"/>
              <a:ext cx="6408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69"/>
            <p:cNvSpPr/>
            <p:nvPr/>
          </p:nvSpPr>
          <p:spPr>
            <a:xfrm>
              <a:off x="6622920" y="406800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0"/>
            <p:cNvSpPr/>
            <p:nvPr/>
          </p:nvSpPr>
          <p:spPr>
            <a:xfrm>
              <a:off x="6708960" y="4050000"/>
              <a:ext cx="6372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71"/>
            <p:cNvSpPr/>
            <p:nvPr/>
          </p:nvSpPr>
          <p:spPr>
            <a:xfrm>
              <a:off x="6708960" y="394380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72"/>
            <p:cNvSpPr/>
            <p:nvPr/>
          </p:nvSpPr>
          <p:spPr>
            <a:xfrm>
              <a:off x="6631560" y="3919680"/>
              <a:ext cx="6408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Oval 73"/>
          <p:cNvSpPr/>
          <p:nvPr/>
        </p:nvSpPr>
        <p:spPr>
          <a:xfrm>
            <a:off x="6315120" y="4325760"/>
            <a:ext cx="633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4"/>
          <p:cNvSpPr/>
          <p:nvPr/>
        </p:nvSpPr>
        <p:spPr>
          <a:xfrm>
            <a:off x="6827760" y="4379760"/>
            <a:ext cx="63720" cy="63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75"/>
          <p:cNvSpPr/>
          <p:nvPr/>
        </p:nvSpPr>
        <p:spPr>
          <a:xfrm>
            <a:off x="6656400" y="4379760"/>
            <a:ext cx="63360" cy="63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76"/>
          <p:cNvSpPr/>
          <p:nvPr/>
        </p:nvSpPr>
        <p:spPr>
          <a:xfrm>
            <a:off x="7121520" y="4432320"/>
            <a:ext cx="6336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7"/>
          <p:cNvSpPr/>
          <p:nvPr/>
        </p:nvSpPr>
        <p:spPr>
          <a:xfrm>
            <a:off x="6948360" y="4432320"/>
            <a:ext cx="65160" cy="63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8"/>
          <p:cNvSpPr/>
          <p:nvPr/>
        </p:nvSpPr>
        <p:spPr>
          <a:xfrm>
            <a:off x="7280280" y="433692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9"/>
          <p:cNvSpPr/>
          <p:nvPr/>
        </p:nvSpPr>
        <p:spPr>
          <a:xfrm>
            <a:off x="7107120" y="4336920"/>
            <a:ext cx="651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83"/>
          <p:cNvGrpSpPr/>
          <p:nvPr/>
        </p:nvGrpSpPr>
        <p:grpSpPr>
          <a:xfrm>
            <a:off x="6919920" y="3890880"/>
            <a:ext cx="264960" cy="265320"/>
            <a:chOff x="6919920" y="3890880"/>
            <a:chExt cx="264960" cy="265320"/>
          </a:xfrm>
        </p:grpSpPr>
        <p:sp>
          <p:nvSpPr>
            <p:cNvPr id="203" name="Oval 84"/>
            <p:cNvSpPr/>
            <p:nvPr/>
          </p:nvSpPr>
          <p:spPr>
            <a:xfrm>
              <a:off x="6919920" y="3890880"/>
              <a:ext cx="264960" cy="265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85"/>
            <p:cNvSpPr/>
            <p:nvPr/>
          </p:nvSpPr>
          <p:spPr>
            <a:xfrm>
              <a:off x="7025760" y="39967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6"/>
            <p:cNvSpPr/>
            <p:nvPr/>
          </p:nvSpPr>
          <p:spPr>
            <a:xfrm>
              <a:off x="6948360" y="39967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7"/>
            <p:cNvSpPr/>
            <p:nvPr/>
          </p:nvSpPr>
          <p:spPr>
            <a:xfrm>
              <a:off x="6992640" y="406764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8"/>
            <p:cNvSpPr/>
            <p:nvPr/>
          </p:nvSpPr>
          <p:spPr>
            <a:xfrm>
              <a:off x="7078680" y="4050000"/>
              <a:ext cx="63720" cy="63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89"/>
            <p:cNvSpPr/>
            <p:nvPr/>
          </p:nvSpPr>
          <p:spPr>
            <a:xfrm>
              <a:off x="7078680" y="394380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90"/>
            <p:cNvSpPr/>
            <p:nvPr/>
          </p:nvSpPr>
          <p:spPr>
            <a:xfrm>
              <a:off x="7001280" y="39193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Oval 92"/>
          <p:cNvSpPr/>
          <p:nvPr/>
        </p:nvSpPr>
        <p:spPr>
          <a:xfrm>
            <a:off x="7556400" y="4362480"/>
            <a:ext cx="6372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93"/>
          <p:cNvSpPr/>
          <p:nvPr/>
        </p:nvSpPr>
        <p:spPr>
          <a:xfrm>
            <a:off x="7626240" y="4267080"/>
            <a:ext cx="6372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94"/>
          <p:cNvSpPr/>
          <p:nvPr/>
        </p:nvSpPr>
        <p:spPr>
          <a:xfrm>
            <a:off x="7453440" y="4267080"/>
            <a:ext cx="6480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95"/>
          <p:cNvSpPr/>
          <p:nvPr/>
        </p:nvSpPr>
        <p:spPr>
          <a:xfrm>
            <a:off x="6099120" y="4282920"/>
            <a:ext cx="63720" cy="63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96"/>
          <p:cNvSpPr/>
          <p:nvPr/>
        </p:nvSpPr>
        <p:spPr>
          <a:xfrm>
            <a:off x="6173640" y="4191120"/>
            <a:ext cx="63720" cy="64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5915160" y="4168800"/>
            <a:ext cx="6480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98"/>
          <p:cNvSpPr/>
          <p:nvPr/>
        </p:nvSpPr>
        <p:spPr>
          <a:xfrm>
            <a:off x="7835760" y="4265640"/>
            <a:ext cx="6372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99"/>
          <p:cNvSpPr/>
          <p:nvPr/>
        </p:nvSpPr>
        <p:spPr>
          <a:xfrm>
            <a:off x="7896240" y="412416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00"/>
          <p:cNvSpPr/>
          <p:nvPr/>
        </p:nvSpPr>
        <p:spPr>
          <a:xfrm>
            <a:off x="7764480" y="4114800"/>
            <a:ext cx="651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1"/>
          <p:cNvSpPr/>
          <p:nvPr/>
        </p:nvSpPr>
        <p:spPr>
          <a:xfrm>
            <a:off x="7772400" y="434340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02"/>
          <p:cNvSpPr/>
          <p:nvPr/>
        </p:nvSpPr>
        <p:spPr>
          <a:xfrm>
            <a:off x="7391520" y="4419720"/>
            <a:ext cx="63360" cy="64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"/>
          <p:cNvSpPr/>
          <p:nvPr/>
        </p:nvSpPr>
        <p:spPr>
          <a:xfrm>
            <a:off x="4132440" y="3657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orepineph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4"/>
          <p:cNvSpPr/>
          <p:nvPr/>
        </p:nvSpPr>
        <p:spPr>
          <a:xfrm>
            <a:off x="5486400" y="4008600"/>
            <a:ext cx="4316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784640" y="3541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roto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7937640" y="3849840"/>
            <a:ext cx="6336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7"/>
          <p:cNvSpPr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duction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roton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been found in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s that alleviate mania reduce norepineph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3E3-C1B5-4D43-948D-2FB4ABF6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Depressed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show that brain energy consumption rises and falls with manic and depressive epis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yersPsy8e_fig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3041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 rot="5400000">
            <a:off x="7395120" y="46404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Lewis Baxter an Michael 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elps, UCLA School of Medic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85F9-5962-40F9-BABB-90609666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cial-Cognitive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social-cognitive perspective suggests that depression arises partly from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f-defeating belief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explanatory sty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7" descr="MyersPsy8e_fig"/>
          <p:cNvPicPr/>
          <p:nvPr/>
        </p:nvPicPr>
        <p:blipFill>
          <a:blip r:embed="rId1"/>
          <a:stretch/>
        </p:blipFill>
        <p:spPr>
          <a:xfrm>
            <a:off x="2084400" y="3200400"/>
            <a:ext cx="4973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4F9-7C59-443A-A852-96FCB0BF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press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0492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gative stressful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ssimistic explanatory 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peless depressed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se hamper the way the individual thinks and acts, fueling personal re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MyersPsy8e_fig"/>
          <p:cNvPicPr/>
          <p:nvPr/>
        </p:nvPicPr>
        <p:blipFill>
          <a:blip r:embed="rId1"/>
          <a:stretch/>
        </p:blipFill>
        <p:spPr>
          <a:xfrm>
            <a:off x="4572000" y="1600200"/>
            <a:ext cx="4052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FE5-97EF-4246-881A-1357040C3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8520" y="5791320"/>
            <a:ext cx="833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natory style plays a major role in becoming de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9" descr="MyersPsy8e_fig"/>
          <p:cNvPicPr/>
          <p:nvPr/>
        </p:nvPicPr>
        <p:blipFill>
          <a:blip r:embed="rId1"/>
          <a:stretch/>
        </p:blipFill>
        <p:spPr>
          <a:xfrm>
            <a:off x="2182680" y="1600200"/>
            <a:ext cx="474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251-CDAE-4A24-9236-C3C466AC9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depression is the common cold of psychological disorders, schizophrenia is the can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71400" y="3200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arly 1 in a 100 suffer from schizophrenia, and throughout the world over 24 million people suffer from this diseas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7140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strikes young people as they mature into adults. It affects men and women equally, but men suffer from it more severely than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CF5-80C1-493E-B283-0780CABB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141912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teral translation is “split mind.” A group of severe disorders characteriz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919160" y="2971800"/>
            <a:ext cx="52833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ganized and delusional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turbed perce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ppropriate emotions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AE5-3DC0-468E-8CCB-FDF9933A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extremes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me in two principa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004840" y="34290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6E7-05E1-438A-BFD3-E7DE73E74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71400" y="4510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 forms of delusions include, delusions of persecution (“someone is following me”) or grandeur (“I am a king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7140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s morning when I was at Hillside [Hospital], I was making a movie. I was surrounded by movie stars … I’m Marry Poppins. Is this room painted blue to get me upset? My grandmother died four weeks after my eighteenth birth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847120" y="3429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Sheehan, 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71400" y="4529160"/>
            <a:ext cx="7772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monologue illustrates fragmented, bizarre thinking with distorted beliefs calle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lus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“I’m Mary Poppin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8A4-216F-4227-83BA-AF98826B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psychologists believe disorganized thoughts occur becaus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ective atten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ilure (fragmented and bizarre though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0050-DDD1-4769-BE2F-DFEAF91B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turbed Perce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perceive things that are not there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allucinat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 Frequently such hallucinations are auditory and lesser visual, somatosensory, olfactory, or gust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MyersPsy8e_16UN23"/>
          <p:cNvPicPr/>
          <p:nvPr/>
        </p:nvPicPr>
        <p:blipFill>
          <a:blip r:embed="rId1"/>
          <a:stretch/>
        </p:blipFill>
        <p:spPr>
          <a:xfrm>
            <a:off x="1433520" y="3429000"/>
            <a:ext cx="6248520" cy="29574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 rot="5400000">
            <a:off x="6379200" y="4873680"/>
            <a:ext cx="2800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. Berthold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Untitle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 rot="5400000">
            <a:off x="3813120" y="4889160"/>
            <a:ext cx="309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ugust Natter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Witches Hea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 rot="5400000">
            <a:off x="-79920" y="4890240"/>
            <a:ext cx="281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hotos of paintings by Krannert Museum, University of Illinois at Urbana-Champaig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87D-3068-4739-8966-291765745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appropriate Emotions &amp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laugh at the news of someone dying or show no emotion at all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path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71400" y="4025880"/>
            <a:ext cx="77724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tients with schizophrenia may continually rub an arm, rock a chair, or remain motionless for hour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tatoni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EA20-EFEB-4205-AA75-491F2352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types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cluster of disorders. These subtypes share some features, but there are other symptoms that differentiate these sub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244-717B-4917-B805-747C2307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itive and Negative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cs have inappropriate symptoms (hallucinations, disorganized thinking, deluded ways) that are not present in normal individual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ositive symptom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71400" y="3962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cs also have an absence of appropriate symptoms (apathy, expressionless faces, rigid bodies) that are present in normal individual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symptom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4DE2-72D7-4AC8-99E6-B2E99757E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hronic and Acute 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is slow to develop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nic/proces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doubtful. Such schizophrenics usually display nega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rapidly develop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ute/reac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better. Such schizophrenics usually show posi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358C-80BD-4B3E-A6C0-9B41935B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MyersPsy8e_Table"/>
          <p:cNvPicPr/>
          <p:nvPr/>
        </p:nvPicPr>
        <p:blipFill>
          <a:blip r:embed="rId1"/>
          <a:stretch/>
        </p:blipFill>
        <p:spPr>
          <a:xfrm>
            <a:off x="480960" y="2492280"/>
            <a:ext cx="815328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4B5-FAD7-4AAC-ABAB-E1B724C6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disease of the brain exhibited by the symptoms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71400" y="3962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opamine Overactivity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ers found that schizophrenic patients express higher levels of dopamine D4 receptors in the b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734920" y="341964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Abnorm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E2DC-377A-4A13-BB0F-9B387856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cans show abnormal activity in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ontal cortex, thalamu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amygda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schizophrenic patients.  Adolescent schizophrenic patients also have brain le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6" descr="MyersPsy8e_fig"/>
          <p:cNvPicPr/>
          <p:nvPr/>
        </p:nvPicPr>
        <p:blipFill>
          <a:blip r:embed="rId1"/>
          <a:stretch/>
        </p:blipFill>
        <p:spPr>
          <a:xfrm>
            <a:off x="1276200" y="3581280"/>
            <a:ext cx="6553440" cy="2725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 rot="5400000">
            <a:off x="6538680" y="47152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ul Thompson and Arthur W. Toga, UCLA Laboratory of Neu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aging and Judith L. Rapport, National Institute of Mental Heal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5ABF-055A-4F67-BFB1-971452C7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57360" y="1600200"/>
            <a:ext cx="780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the “common cold” of psychological disorders. In a year, 5.8% of men and 9.5% of women report depression worldwid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464832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hronic shortness of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0948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sping for air after a  hard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4832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60948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lue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685-2920-4D65-87D8-17662BCA2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Morp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patients may exhibit morphological changes in the brain like enlargement of fluid-filled ventr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6" descr="MyersPsy8e_16UN25"/>
          <p:cNvPicPr/>
          <p:nvPr/>
        </p:nvPicPr>
        <p:blipFill>
          <a:blip r:embed="rId1"/>
          <a:stretch/>
        </p:blipFill>
        <p:spPr>
          <a:xfrm>
            <a:off x="1928880" y="3200400"/>
            <a:ext cx="5257800" cy="31780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 rot="5400000">
            <a:off x="5884200" y="4507920"/>
            <a:ext cx="280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oth Photos: Courtesy of Daniel R. Weinberger, M.D., NIH-NIMH/ N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2F9-BD5D-4CA6-8A76-7FE91338E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iral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has also been observed in individuals who contracted a viral infection (flu) during the middle of their feta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9A34-1AE5-4EFA-8826-D66E2BFB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of an individual suffering from schizophrenia is 50% if their identical twin has the disease (Gottesman, 199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23"/>
          <p:cNvGrpSpPr/>
          <p:nvPr/>
        </p:nvGrpSpPr>
        <p:grpSpPr>
          <a:xfrm>
            <a:off x="2190600" y="3230640"/>
            <a:ext cx="5072040" cy="3273840"/>
            <a:chOff x="2190600" y="3230640"/>
            <a:chExt cx="5072040" cy="3273840"/>
          </a:xfrm>
        </p:grpSpPr>
        <p:sp>
          <p:nvSpPr>
            <p:cNvPr id="308" name="Rectangle 8"/>
            <p:cNvSpPr/>
            <p:nvPr/>
          </p:nvSpPr>
          <p:spPr>
            <a:xfrm>
              <a:off x="4386240" y="3562200"/>
              <a:ext cx="2657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4398840" y="3994200"/>
              <a:ext cx="2460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212360" y="3230640"/>
              <a:ext cx="305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0    10    20    30    40    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3119760" y="35956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Iden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2637000" y="399564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oth par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4398840" y="4424400"/>
              <a:ext cx="86220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3057120" y="44146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Fra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4398840" y="4854600"/>
              <a:ext cx="615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2845800" y="485784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One 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7"/>
            <p:cNvSpPr/>
            <p:nvPr/>
          </p:nvSpPr>
          <p:spPr>
            <a:xfrm>
              <a:off x="4403880" y="5286240"/>
              <a:ext cx="425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3337200" y="52768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Si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9"/>
            <p:cNvSpPr/>
            <p:nvPr/>
          </p:nvSpPr>
          <p:spPr>
            <a:xfrm>
              <a:off x="4400640" y="5716440"/>
              <a:ext cx="24444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190600" y="5707080"/>
              <a:ext cx="22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Nephew or ni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4400640" y="6119640"/>
              <a:ext cx="60120" cy="30672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2986200" y="610560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Unre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AC00-6F3E-4351-841C-EC737348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ollowing shows the prevalence of schizophrenia in identical twins as seen in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4" descr="MyersPsy8e_fig"/>
          <p:cNvPicPr/>
          <p:nvPr/>
        </p:nvPicPr>
        <p:blipFill>
          <a:blip r:embed="rId1"/>
          <a:stretch/>
        </p:blipFill>
        <p:spPr>
          <a:xfrm>
            <a:off x="1204920" y="3200400"/>
            <a:ext cx="6705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127-F1D9-40E8-B0E8-D397DAE6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cal and environmental factors can trigger schizophrenia if the individual is genetically predisposed (Nicols &amp; Gottesman, 198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19" descr="MyersPsy8e_16UN26"/>
          <p:cNvPicPr/>
          <p:nvPr/>
        </p:nvPicPr>
        <p:blipFill>
          <a:blip r:embed="rId1"/>
          <a:stretch/>
        </p:blipFill>
        <p:spPr>
          <a:xfrm>
            <a:off x="900000" y="3463920"/>
            <a:ext cx="3291120" cy="28414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1596960" y="63086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enai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4419720" y="34639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genetically identical Gen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sters suffer from schizophrenia. Two more than others, thus there are contributing environment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3"/>
          <p:cNvSpPr/>
          <p:nvPr/>
        </p:nvSpPr>
        <p:spPr>
          <a:xfrm rot="5400000">
            <a:off x="3587040" y="5477400"/>
            <a:ext cx="14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Genain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3DE3-825C-428F-81E3-EEC82590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rning 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warning signs of schizophrenia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1603440" y="3005280"/>
            <a:ext cx="6426000" cy="83808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rth complications, oxygen deprivation and low-birth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1081080" y="3005280"/>
            <a:ext cx="522360" cy="83808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603440" y="3886200"/>
            <a:ext cx="6426000" cy="82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hort attention span and poor muscle coord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1081080" y="3886200"/>
            <a:ext cx="522360" cy="82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1603440" y="5843520"/>
            <a:ext cx="642600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oor peer relations and solo 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1081080" y="5843520"/>
            <a:ext cx="52236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603440" y="5343480"/>
            <a:ext cx="642600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motional unpredic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1081080" y="5343480"/>
            <a:ext cx="52236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603440" y="4749840"/>
            <a:ext cx="6426000" cy="55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ruptive and withdrawn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081080" y="4749840"/>
            <a:ext cx="522360" cy="55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603440" y="2438280"/>
            <a:ext cx="6426000" cy="5335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mother’s long lasting schizophr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081080" y="2438280"/>
            <a:ext cx="522360" cy="5335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081080" y="2514600"/>
            <a:ext cx="5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2"/>
          <p:cNvSpPr/>
          <p:nvPr/>
        </p:nvSpPr>
        <p:spPr>
          <a:xfrm>
            <a:off x="1081080" y="6172200"/>
            <a:ext cx="5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3"/>
          <p:cNvSpPr/>
          <p:nvPr/>
        </p:nvSpPr>
        <p:spPr>
          <a:xfrm>
            <a:off x="1081080" y="2514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8029440" y="2514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55"/>
          <p:cNvSpPr/>
          <p:nvPr/>
        </p:nvSpPr>
        <p:spPr>
          <a:xfrm>
            <a:off x="1603440" y="2514600"/>
            <a:ext cx="64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56"/>
          <p:cNvSpPr/>
          <p:nvPr/>
        </p:nvSpPr>
        <p:spPr>
          <a:xfrm>
            <a:off x="1081080" y="30481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58"/>
          <p:cNvSpPr/>
          <p:nvPr/>
        </p:nvSpPr>
        <p:spPr>
          <a:xfrm>
            <a:off x="8029440" y="30481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1081080" y="388620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2"/>
          <p:cNvSpPr/>
          <p:nvPr/>
        </p:nvSpPr>
        <p:spPr>
          <a:xfrm>
            <a:off x="8029440" y="388620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4"/>
          <p:cNvSpPr/>
          <p:nvPr/>
        </p:nvSpPr>
        <p:spPr>
          <a:xfrm>
            <a:off x="1081080" y="4707000"/>
            <a:ext cx="0" cy="5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66"/>
          <p:cNvSpPr/>
          <p:nvPr/>
        </p:nvSpPr>
        <p:spPr>
          <a:xfrm>
            <a:off x="8029440" y="4707000"/>
            <a:ext cx="0" cy="5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68"/>
          <p:cNvSpPr/>
          <p:nvPr/>
        </p:nvSpPr>
        <p:spPr>
          <a:xfrm>
            <a:off x="10810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0"/>
          <p:cNvSpPr/>
          <p:nvPr/>
        </p:nvSpPr>
        <p:spPr>
          <a:xfrm>
            <a:off x="802944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2"/>
          <p:cNvSpPr/>
          <p:nvPr/>
        </p:nvSpPr>
        <p:spPr>
          <a:xfrm>
            <a:off x="1081080" y="57150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74"/>
          <p:cNvSpPr/>
          <p:nvPr/>
        </p:nvSpPr>
        <p:spPr>
          <a:xfrm>
            <a:off x="8029440" y="57150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76"/>
          <p:cNvSpPr/>
          <p:nvPr/>
        </p:nvSpPr>
        <p:spPr>
          <a:xfrm>
            <a:off x="1603440" y="6172200"/>
            <a:ext cx="64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82E2-604B-448E-B083-C3AF8CCA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onality disorders are characterized by inflexible and enduring behavior patterns that impair social functioning. They are usually without anxiety, depression, or de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MyersPsy8e_16UN27"/>
          <p:cNvPicPr/>
          <p:nvPr/>
        </p:nvPicPr>
        <p:blipFill>
          <a:blip r:embed="rId1"/>
          <a:stretch/>
        </p:blipFill>
        <p:spPr>
          <a:xfrm>
            <a:off x="5160960" y="160020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1AF2-BC4E-4F63-BECC-7DF737D1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the person (usually men) exhibits a lack of conscience for wrongdoing, even toward friends and family members. Formerly, this person was called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ociopat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sycho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7D40-BFD3-4AAF-9F34-0183E354B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mood disorders and schizophrenia, antisocial personality disorder has biological and psychological reasons. Youngsters, before committing a crime, respond with lower levels of stress hormones than others do at their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MyersPsy8e_fig"/>
          <p:cNvPicPr/>
          <p:nvPr/>
        </p:nvPicPr>
        <p:blipFill>
          <a:blip r:embed="rId1"/>
          <a:stretch/>
        </p:blipFill>
        <p:spPr>
          <a:xfrm>
            <a:off x="4648320" y="1913040"/>
            <a:ext cx="411480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5DE4-EF87-4F5A-A4DB-198B6775C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of 41 murderers revealed reduced activity in the frontal lobes. In a follow-up study repeat offenders had 11% less frontal lobe activity compared to normals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1866960" y="3720960"/>
            <a:ext cx="5376960" cy="2797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2604240" y="64562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364000" y="64612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d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 rot="5400000">
            <a:off x="6493680" y="5370480"/>
            <a:ext cx="18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Adrian Rai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Southern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13D0-063A-4E71-BAD2-51A8B57F3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 occurs whe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ig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depression last two weeks or more and are not caused by drugs or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133720" y="3886200"/>
            <a:ext cx="5562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thargy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eelings of worth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family &amp;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685960" y="3490920"/>
            <a:ext cx="37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g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64F-DF77-495B-A2F7-93FF53F9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that one will commit a crime doubles when childhood poverty is compounded with obstetrical complications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7" descr="MyersPsy8e_fig"/>
          <p:cNvPicPr/>
          <p:nvPr/>
        </p:nvPicPr>
        <p:blipFill>
          <a:blip r:embed="rId1"/>
          <a:stretch/>
        </p:blipFill>
        <p:spPr>
          <a:xfrm>
            <a:off x="2095560" y="3124080"/>
            <a:ext cx="49528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309-48EC-4A1B-AC2C-66D424F5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MyersPsy8e_Table"/>
          <p:cNvPicPr/>
          <p:nvPr/>
        </p:nvPicPr>
        <p:blipFill>
          <a:blip r:embed="rId1"/>
          <a:stretch/>
        </p:blipFill>
        <p:spPr>
          <a:xfrm>
            <a:off x="1585800" y="1523880"/>
            <a:ext cx="59436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697-8C48-4C0B-A255-6AFDE36B2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5" descr="MyersPsy8e_fig"/>
          <p:cNvPicPr/>
          <p:nvPr/>
        </p:nvPicPr>
        <p:blipFill>
          <a:blip r:embed="rId1"/>
          <a:stretch/>
        </p:blipFill>
        <p:spPr>
          <a:xfrm>
            <a:off x="1004760" y="2838600"/>
            <a:ext cx="7115400" cy="35812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revalence of psychological disorders during the previous year is shown below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933-4157-4B09-B844-B2132224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isk and Protectiv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isk and protective factors for mental disorders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MyersPsy8e_Table"/>
          <p:cNvPicPr/>
          <p:nvPr/>
        </p:nvPicPr>
        <p:blipFill>
          <a:blip r:embed="rId1"/>
          <a:stretch/>
        </p:blipFill>
        <p:spPr>
          <a:xfrm>
            <a:off x="900000" y="2917800"/>
            <a:ext cx="73152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D23-22BE-4F33-917D-40C9759D5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isk and Protectiv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MyersPsy8e_Table"/>
          <p:cNvPicPr/>
          <p:nvPr/>
        </p:nvPicPr>
        <p:blipFill>
          <a:blip r:embed="rId1"/>
          <a:stretch/>
        </p:blipFill>
        <p:spPr>
          <a:xfrm>
            <a:off x="900000" y="1600200"/>
            <a:ext cx="73152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89F-CA4F-4129-B93B-C305F16BF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ysthym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ysthymic disorder lies between a blue mood and major depressive disorder. It is a disorder characterized by daily depression lasting two years or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1400040" y="4114800"/>
            <a:ext cx="7010640" cy="1081080"/>
            <a:chOff x="1400040" y="4114800"/>
            <a:chExt cx="7010640" cy="1081080"/>
          </a:xfrm>
        </p:grpSpPr>
        <p:sp>
          <p:nvSpPr>
            <p:cNvPr id="87" name="AutoShape 17"/>
            <p:cNvSpPr/>
            <p:nvPr/>
          </p:nvSpPr>
          <p:spPr>
            <a:xfrm>
              <a:off x="1400040" y="4114800"/>
              <a:ext cx="7010640" cy="1081080"/>
            </a:xfrm>
            <a:custGeom>
              <a:avLst/>
              <a:gdLst>
                <a:gd name="textAreaLeft" fmla="*/ 0 w 7010640"/>
                <a:gd name="textAreaRight" fmla="*/ 7011000 w 701064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11" y="0"/>
                  </a:lnTo>
                  <a:lnTo>
                    <a:pt x="21600" y="10800"/>
                  </a:lnTo>
                  <a:lnTo>
                    <a:pt x="1861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5715000" y="422424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Palatino Linotype"/>
                </a:rPr>
                <a:t>Major Depres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Palatino Linotype"/>
                </a:rPr>
                <a:t>Dis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2057400" y="4224240"/>
              <a:ext cx="1143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lu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M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3591000" y="4224240"/>
              <a:ext cx="1942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Dysthy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Dis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Oval 20"/>
          <p:cNvSpPr/>
          <p:nvPr/>
        </p:nvSpPr>
        <p:spPr>
          <a:xfrm>
            <a:off x="3824280" y="3930480"/>
            <a:ext cx="1454040" cy="145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D53-EE94-4136-A903-4866F289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merly called manic-depressive disorder. An alternation between depression and mania signals bipolar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2"/>
          <p:cNvSpPr/>
          <p:nvPr/>
        </p:nvSpPr>
        <p:spPr>
          <a:xfrm>
            <a:off x="4557600" y="586908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ultipl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4557600" y="5413320"/>
            <a:ext cx="3886200" cy="45576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yp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4557600" y="495792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ire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6"/>
          <p:cNvSpPr/>
          <p:nvPr/>
        </p:nvSpPr>
        <p:spPr>
          <a:xfrm>
            <a:off x="4557600" y="4438800"/>
            <a:ext cx="3886200" cy="51912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up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557600" y="3936960"/>
            <a:ext cx="3886200" cy="50184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57600" y="3124080"/>
            <a:ext cx="3886200" cy="67788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nic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671400" y="586908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lowness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2"/>
          <p:cNvSpPr/>
          <p:nvPr/>
        </p:nvSpPr>
        <p:spPr>
          <a:xfrm>
            <a:off x="671400" y="5413320"/>
            <a:ext cx="3886200" cy="455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671400" y="495792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bility to mak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671400" y="4438800"/>
            <a:ext cx="3886200" cy="51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671400" y="3936960"/>
            <a:ext cx="3886200" cy="501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lo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671400" y="3124080"/>
            <a:ext cx="3886200" cy="67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ve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714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714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6714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84438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6714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84438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2"/>
          <p:cNvSpPr/>
          <p:nvPr/>
        </p:nvSpPr>
        <p:spPr>
          <a:xfrm>
            <a:off x="45576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4"/>
          <p:cNvSpPr/>
          <p:nvPr/>
        </p:nvSpPr>
        <p:spPr>
          <a:xfrm>
            <a:off x="6714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76"/>
          <p:cNvSpPr/>
          <p:nvPr/>
        </p:nvSpPr>
        <p:spPr>
          <a:xfrm>
            <a:off x="84438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6714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0"/>
          <p:cNvSpPr/>
          <p:nvPr/>
        </p:nvSpPr>
        <p:spPr>
          <a:xfrm>
            <a:off x="84438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6714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4"/>
          <p:cNvSpPr/>
          <p:nvPr/>
        </p:nvSpPr>
        <p:spPr>
          <a:xfrm>
            <a:off x="84438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6"/>
          <p:cNvSpPr/>
          <p:nvPr/>
        </p:nvSpPr>
        <p:spPr>
          <a:xfrm>
            <a:off x="6714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8"/>
          <p:cNvSpPr/>
          <p:nvPr/>
        </p:nvSpPr>
        <p:spPr>
          <a:xfrm>
            <a:off x="84438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0"/>
          <p:cNvSpPr/>
          <p:nvPr/>
        </p:nvSpPr>
        <p:spPr>
          <a:xfrm>
            <a:off x="45576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AE3-CA7D-4BA6-A74D-4855B5B43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great writers, poets, and composers suffered from bipolar disorder. During their manic phase creativity surged, but not during their depressed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8"/>
          <p:cNvGrpSpPr/>
          <p:nvPr/>
        </p:nvGrpSpPr>
        <p:grpSpPr>
          <a:xfrm>
            <a:off x="685800" y="3657600"/>
            <a:ext cx="7772400" cy="2470680"/>
            <a:chOff x="685800" y="3657600"/>
            <a:chExt cx="7772400" cy="2470680"/>
          </a:xfrm>
        </p:grpSpPr>
        <p:pic>
          <p:nvPicPr>
            <p:cNvPr id="127" name="Picture 32" descr="MyersPsy8e_16UN17"/>
            <p:cNvPicPr/>
            <p:nvPr/>
          </p:nvPicPr>
          <p:blipFill>
            <a:blip r:embed="rId1"/>
            <a:stretch/>
          </p:blipFill>
          <p:spPr>
            <a:xfrm>
              <a:off x="685800" y="3657600"/>
              <a:ext cx="77724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4"/>
            <p:cNvSpPr/>
            <p:nvPr/>
          </p:nvSpPr>
          <p:spPr>
            <a:xfrm>
              <a:off x="848880" y="57276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hit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3096360" y="5729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ol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4984200" y="57294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Cl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6798600" y="572940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Heming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39"/>
          <p:cNvSpPr/>
          <p:nvPr/>
        </p:nvSpPr>
        <p:spPr>
          <a:xfrm rot="5400000">
            <a:off x="2016720" y="517068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0"/>
          <p:cNvSpPr/>
          <p:nvPr/>
        </p:nvSpPr>
        <p:spPr>
          <a:xfrm rot="5400000">
            <a:off x="3293280" y="4681800"/>
            <a:ext cx="231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orge C. Beresford/ Hulton Getty Pictures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1"/>
          <p:cNvSpPr/>
          <p:nvPr/>
        </p:nvSpPr>
        <p:spPr>
          <a:xfrm rot="5400000">
            <a:off x="5878080" y="5032800"/>
            <a:ext cx="127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Granger 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2"/>
          <p:cNvSpPr/>
          <p:nvPr/>
        </p:nvSpPr>
        <p:spPr>
          <a:xfrm rot="5400000">
            <a:off x="7449480" y="4646880"/>
            <a:ext cx="22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rl Theissen/ Hulton Getty Pictures Lib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279D-1F41-4A9A-AB17-93E70AD95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depression is so prevalent worldwide, investigators want to develop a theory of depression that will suggest ways to treat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71400" y="3338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winsohn et al., (1985, 1995) note that a theory of depression should explai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371600" y="4572000"/>
            <a:ext cx="637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and cognitiv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 causes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B89-8EC0-484C-AF03-74C5A1E34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62120" y="1600200"/>
            <a:ext cx="39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yersPsy8e_fig"/>
          <p:cNvPicPr/>
          <p:nvPr/>
        </p:nvPicPr>
        <p:blipFill>
          <a:blip r:embed="rId1"/>
          <a:stretch/>
        </p:blipFill>
        <p:spPr>
          <a:xfrm>
            <a:off x="447840" y="2927520"/>
            <a:ext cx="82296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</dc:creator>
  <dc:description/>
  <dc:language>en-US</dc:language>
  <cp:lastModifiedBy>dpark</cp:lastModifiedBy>
  <dcterms:modified xsi:type="dcterms:W3CDTF">2010-04-29T18:21:05Z</dcterms:modified>
  <cp:revision>1242</cp:revision>
  <dc:subject/>
  <dc:title>Memory</dc:title>
</cp:coreProperties>
</file>